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244A-D909-4202-9BE5-836A36CDD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AA67-C036-4E3D-83BB-E10E0011B0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D601-738A-4615-BF43-E333720B3F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8D1A-AD65-4E3B-B4DD-C7F0AA0596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1B33-021F-4D27-8664-08E0F019AF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82E2-0D34-4EC9-B539-37482203A2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4C73-D81F-4B72-BA53-5622650EA6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54F5-333B-4AD4-8207-4969550F3C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DF26-750F-489C-BBE0-87D3641008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F9B2-05DD-4D7E-9E67-2D5CC78081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117A-3012-4D50-9CBA-1D03DDF99B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FCDD-51CE-4682-87C3-21E42B42CC5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5600-88E4-422B-88FC-AD8833FB3E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A167-E331-4369-BB57-C9BE044160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F4D3-D984-4D2A-9839-C2E82E9157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C0D3-D4EE-49AE-A069-B1CAEBE117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3618-3C25-4C4B-B17B-D31C586D92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E264-3035-4677-827A-7F1E978034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9FCA-B69A-4796-A622-3DA741C91B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963C-B50C-4F4B-9E83-EDDB5FC184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9595-510F-48FA-9DF6-353E312E1F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AD17-B1B7-4EC9-8A9B-5F4E25FD3F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B337-1289-4283-9A7B-65C644F3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53D6-3A59-43B8-AD63-5C3C529B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602-F7EF-4E2E-8B74-E781D742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1D4-36A2-4D84-A717-4C56D549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03A4-0695-4B14-89B4-86A7A450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AAA2-9DDD-4637-B605-C59E4952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B3F5-2BB4-47E3-82ED-14DFC14F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237D-3FE4-4211-BC6D-E54FC56C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68FD-1944-454C-876E-391108E8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7E03-7278-4B25-A736-D0C250DC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DE6C-612F-4FCC-9C01-DF6C249F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298-038A-4D64-916D-F56C112B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393A-89B2-4598-9403-B0064A8B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7124-A330-4DF9-ADC0-0D46B527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EE98-ED8A-46E8-9520-96F23A66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4A9A-93D7-455F-9D08-BEBFD509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D4B2-AFB3-45F9-9DE8-D1F8137F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3C3C-D819-4066-B3EE-715F55F0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2646-0F15-487F-A921-7C44F89A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308-0841-4C0F-BB49-2FDB5106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D4B-F87E-424E-B84B-663D0D25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A7F-1D4D-4A6D-AC12-6D275A65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247B-AC63-40D5-9A58-3174C90C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510B-8E40-4183-A33F-30099B6D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F9B0-2422-427C-A588-73D48E39DF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B992-3A6E-4923-A4FE-6DBE58B976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hapter 12 – Agriculture and the Environmen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8" name="Picture 4" descr="feedlot_lg"/>
          <p:cNvPicPr/>
          <p:nvPr/>
        </p:nvPicPr>
        <p:blipFill>
          <a:blip r:embed="rId1"/>
          <a:stretch/>
        </p:blipFill>
        <p:spPr>
          <a:xfrm>
            <a:off x="533520" y="3270240"/>
            <a:ext cx="77724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P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ms at control not eli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a combo of methods incl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logical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insectic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crop planting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M Cro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erhybri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rminator Ge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 transfer (transgenic crop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sertific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Some Causes of Deser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or farm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vergraz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emical poisoning of the so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Kesterson Wildlife Refug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48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ificial wetla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rly 1980s received agricultural drainage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 supposed to drain to sea, didn’t finish it (oops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nium accumulated in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-irrigating to leach out salt buildup  caused the prob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5" descr="image of location map shows kesterson national wildlife refuge, cretaceous and tertiary sedimentary basins, and locations of onshore oil and gas fields, highlighting the Cheney Ranch 1 and Magnet Fearon 2 oil wells"/>
          <p:cNvPicPr/>
          <p:nvPr/>
        </p:nvPicPr>
        <p:blipFill>
          <a:blip r:embed="rId1"/>
          <a:stretch/>
        </p:blipFill>
        <p:spPr>
          <a:xfrm>
            <a:off x="3505320" y="1676520"/>
            <a:ext cx="4886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mal embry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ified a tox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te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ing at plans to continue drainage to s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image of a normal, upper left, and deformed birds from the kesterson national wildlife refuge in california's central valley"/>
          <p:cNvPicPr/>
          <p:nvPr/>
        </p:nvPicPr>
        <p:blipFill>
          <a:blip r:embed="rId1"/>
          <a:stretch/>
        </p:blipFill>
        <p:spPr>
          <a:xfrm>
            <a:off x="4114800" y="1447920"/>
            <a:ext cx="4019400" cy="5105160"/>
          </a:xfrm>
          <a:prstGeom prst="rect">
            <a:avLst/>
          </a:prstGeom>
          <a:ln w="0">
            <a:noFill/>
          </a:ln>
        </p:spPr>
      </p:pic>
      <p:sp>
        <p:nvSpPr>
          <p:cNvPr id="131" name="Line 6"/>
          <p:cNvSpPr/>
          <p:nvPr/>
        </p:nvSpPr>
        <p:spPr>
          <a:xfrm>
            <a:off x="3429000" y="1981080"/>
            <a:ext cx="99072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858000" y="6324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e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648320" y="6248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fe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9"/>
          <p:cNvSpPr/>
          <p:nvPr/>
        </p:nvSpPr>
        <p:spPr>
          <a:xfrm flipH="1" flipV="1">
            <a:off x="7238520" y="5257440"/>
            <a:ext cx="228600" cy="1066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0"/>
          <p:cNvSpPr/>
          <p:nvPr/>
        </p:nvSpPr>
        <p:spPr>
          <a:xfrm flipV="1">
            <a:off x="5105520" y="5333760"/>
            <a:ext cx="0" cy="99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Desertification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Caus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verting wa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utting tre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nging weather patterns/ Global climate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00"/>
                </a:solidFill>
                <a:latin typeface="Garamond"/>
              </a:rPr>
              <a:t>Desertification data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Who’s most immediately affect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70 percent of the world's drylands are degraded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in the world are affected to some degree by desertification.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Globally it is estimated that the annual income lost in the areas affected by desertification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Map59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00"/>
                </a:solidFill>
                <a:uFillTx/>
                <a:latin typeface="Garamond"/>
              </a:rPr>
              <a:t>Important Legis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Research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od Securities 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stainable Agriculture Research and Education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UNCCD: 199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nvention to Combat Des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0 nations ra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00 million dollars to fund projects to stop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Factory Farming: Increasing p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ibiotics are commonly used in animal pro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imals are bred to grow faster and to be more desirable for mark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 chickens with more breast me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thetic hormones are approved for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th horm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k production horm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il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Verdana"/>
              </a:rPr>
              <a:t>Tex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soilparticles"/>
          <p:cNvPicPr/>
          <p:nvPr/>
        </p:nvPicPr>
        <p:blipFill>
          <a:blip r:embed="rId1"/>
          <a:stretch/>
        </p:blipFill>
        <p:spPr>
          <a:xfrm>
            <a:off x="2362320" y="380880"/>
            <a:ext cx="6172200" cy="62485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6171840" y="5181480"/>
            <a:ext cx="22860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Beef P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dl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 corn instead of gra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ned in a small 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cal material accumul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ease spreads readi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micals used to control dise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Waste Production..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ter 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eatment requir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dor/airborn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te treatment regulations are more lax than for waste from peo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il Ero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9720" y="268560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- organic mater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erals (botto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- zone of lea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– high in leached minerals from abo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– original parent mater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112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5410080" y="1219320"/>
            <a:ext cx="3733920" cy="45972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IL STRUCT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oals of sustainable farm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ustainable farming practices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he following reduce soil erosion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Contour plow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Terracing hill sid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Shelterbel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Low or No Till Plowing (wind and wa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rop Rotation (keeps nutrients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tating heavy feeders, mode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eeders with soil bui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crop rotation, three sisters"/>
          <p:cNvPicPr/>
          <p:nvPr/>
        </p:nvPicPr>
        <p:blipFill>
          <a:blip r:embed="rId1"/>
          <a:stretch/>
        </p:blipFill>
        <p:spPr>
          <a:xfrm>
            <a:off x="685800" y="83808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ver Cro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t during fallow(off) sea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ep nitrates from leaching out of topso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keep soil orgs healthy and “fe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s excess N from runoff into water supp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est Manage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oad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rrow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ed Pest Management (IP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8:42:30Z</dcterms:created>
  <dc:creator>tosborne</dc:creator>
  <dc:description/>
  <dc:language>en-US</dc:language>
  <cp:lastModifiedBy>Teri Osborne</cp:lastModifiedBy>
  <dcterms:modified xsi:type="dcterms:W3CDTF">2011-11-14T02:11:27Z</dcterms:modified>
  <cp:revision>39</cp:revision>
  <dc:subject/>
  <dc:title>Slide 1</dc:title>
</cp:coreProperties>
</file>